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DF1-8D15-4111-8260-331E9848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DA7-2B5F-4AA6-B2D1-3555AEB4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0B6-8A4C-4A51-9EDB-535C3DC3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9D8-3E69-4DC1-9004-25FD7AD5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E40-354A-4DDE-AF4F-6CB8C4ED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835-A413-4663-8246-6C9B4F2B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9F6-5821-4C38-8703-F1E65DEE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F75-AED1-49FD-AEFF-EFEF6907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50F-112B-4DC8-A145-7B2B2B28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BB9-53B3-4FC5-A3E9-5A94E9BC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A63-7BB9-4DCF-9DFF-1F70127D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39B-D58B-41ED-8B6A-B55358B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038F-A947-4CAA-B1CF-4B29A3076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1800" y="1044720"/>
            <a:ext cx="565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Big Bad Pig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30800" y="20574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59280" y="2666880"/>
            <a:ext cx="3025440" cy="238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1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137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1154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946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429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246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71840" y="2666880"/>
            <a:ext cx="400032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137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30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953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286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2286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565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5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5656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25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154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002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21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352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2T18:51:32Z</dcterms:modified>
  <cp:revision>9</cp:revision>
  <dc:subject/>
  <dc:title>No Slide Title</dc:title>
</cp:coreProperties>
</file>